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34D-1EA2-4524-9BD3-E681309E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F59-5151-448E-ABD6-0B51CC9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645-37F4-4DA8-8498-4D695687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2F3-2B08-408D-B5F5-83978E64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29A-FF83-496C-8209-BC90E74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441-B2EB-4C9F-ACC4-5E68FD51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207-277C-44F5-BACC-12EDD3F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7BF-8B32-42C3-9088-C159CD0B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68D-B6A4-4005-905D-C753BC69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B3D-F24C-42A8-9CA8-99E6BD4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0C6-FE77-46F9-B736-075A300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62D-9189-4F1A-9CCD-2E033F07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A4CB-7D77-4E68-BC8B-89A6D814D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75248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There was a little guy with two different colo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5:13:32Z</dcterms:created>
  <dc:creator>Patrick Mooney</dc:creator>
  <dc:description/>
  <dc:language>en-US</dc:language>
  <cp:lastModifiedBy>Patrick Mooney</cp:lastModifiedBy>
  <dcterms:modified xsi:type="dcterms:W3CDTF">2009-02-12T15:19:38Z</dcterms:modified>
  <cp:revision>2</cp:revision>
  <dc:subject/>
  <dc:title>Slide 1</dc:title>
</cp:coreProperties>
</file>